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0364-2150-441B-BE9B-64CE0066A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8C69-64E3-4F7F-91BE-29ACDEFA1361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47EB-5644-44A0-853F-D70048301BB8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5629-B25A-4ADE-9316-53F3FBDA17F4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182C-C281-4AC4-A431-4D456371692E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4AD1-45E2-4825-9499-152DE2AB333D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2691-A1CD-403D-AE89-CDAC44B74920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E83C-A9FC-4CA7-B3E4-E656BB86D221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73F3-8024-45E5-B0CD-69977BCE4029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962F-B6BD-4866-B2C6-F623B86B431B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E1D8-9137-4113-8E39-FCFC39BCB124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DA4E-5F9A-4441-A0AB-4DB98244C294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DB67-1DCE-44F0-B410-9923AA073E2D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0A09-8285-4D5B-9C4F-592A6AB32F8A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92A2-314E-472F-A495-3976917A8196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A042-12C8-4A19-BE14-844A69BA0252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02EF-6784-44EC-BF27-20879F5EBB2E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4A7F-27E6-494C-BE40-94027BDC4290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7A96-A5EF-455D-9DCB-62406A5C55C2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840C-6B1A-49D4-9AE6-8254F58BA4B7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E21-74B0-4852-8512-3143ED37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719-ADE4-407F-AEE2-E8AD78B6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511-3895-4232-8E77-C5AE455A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9D2-5DB5-4FD1-95A1-7607DDB0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5C66-A151-489A-8DF7-97C757E4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BAF5-5380-4162-B331-04F0E624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564A-429B-4CDC-B43A-0C79822F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A944-AF30-4B4C-85B0-F808AE97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E55D-CE81-4C2A-B22C-0E5960E2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DCF8-C5D8-46FF-ACAE-F26DEBEF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340F-1940-42D7-9E05-B14B96F8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72A-6DA0-47E2-855D-AEBA15C6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1C79-BE81-4F4F-B33B-B6101D0E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AE51-A3D3-41F8-81A3-89F3C2FF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D9C5-67EB-423A-8BCA-EC9A683B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CF37-80E0-4149-9CA8-CABA53FE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71BE-1E96-41EA-B759-42E5C899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E9F-9405-43C4-B2D8-86662615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EAC-7D27-49A9-9276-4577EA0B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92F-5EBE-4997-B7F1-B3E6CE23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7A8-033D-47EA-9092-E6B3250C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9FE-B989-4D9D-BCA7-9479D623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450-522C-4610-ADD2-CB287395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12A-008A-49B7-9D82-6D3613AF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1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201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202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203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04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205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206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207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208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209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210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211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212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213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214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215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216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217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18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9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0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21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22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23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24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25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26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27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228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229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230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231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28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26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26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26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26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26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27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27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27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27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27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27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27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27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27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27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28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28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28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28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28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28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28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28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28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DFC4-AE91-4F3C-A4C0-5BFFB4A03246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885A-682B-4113-96E3-21C6C8614420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READING FLUEN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Literacy Links Found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Mary Baile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Content Placeholder 3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2703240" cy="60642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5"/>
          <p:cNvSpPr/>
          <p:nvPr/>
        </p:nvSpPr>
        <p:spPr>
          <a:xfrm>
            <a:off x="5029200" y="4648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Hudson, R., Pullen, P.,  Lane, H., Torgesen, J. (2009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4176"/>
                </a:solidFill>
                <a:latin typeface="Arial"/>
              </a:rPr>
              <a:t>Schools, grade levels, and teachers that are not producing strong growth in phonemic awareness, phonics, and </a:t>
            </a:r>
            <a:r>
              <a:rPr b="1" i="1" lang="en-US" sz="3600" spc="-1" strike="noStrike">
                <a:solidFill>
                  <a:srgbClr val="404176"/>
                </a:solidFill>
                <a:latin typeface="Arial"/>
              </a:rPr>
              <a:t>fluency</a:t>
            </a:r>
            <a:r>
              <a:rPr b="0" i="1" lang="en-US" sz="3600" spc="-1" strike="noStrike">
                <a:solidFill>
                  <a:srgbClr val="404176"/>
                </a:solidFill>
                <a:latin typeface="Arial"/>
              </a:rPr>
              <a:t> in their students are not likely to show strong gains on measures of reading comprehension.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                               Torgesen, 2005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pecifically, schools must provide…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ore powerful instruction toward mastery of the alphabetic principal by the end of first grad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ronger support for the growth of reading fluency in first and second grade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04176"/>
                </a:solidFill>
                <a:latin typeface="Arial"/>
              </a:rPr>
              <a:t>What activities do you use in your classroom to help your students develop their fluency skill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 Instru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Model fluent reading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ad to your students dail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e tape-assisted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e computer-assisted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Have students practice re-reading the same tex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 Instru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Use repeated reading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Student-adult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Partner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Choral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Tape/computer-assisted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Reader’s theatr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 Practi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assages should be relatively shor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 should be reasonably easy for stude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447920" y="3809880"/>
          <a:ext cx="6095880" cy="2551320"/>
        </p:xfrm>
        <a:graphic>
          <a:graphicData uri="http://schemas.openxmlformats.org/drawingml/2006/table">
            <a:tbl>
              <a:tblPr/>
              <a:tblGrid>
                <a:gridCol w="1981080"/>
                <a:gridCol w="2082960"/>
                <a:gridCol w="203184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Independent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ve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Instructiona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ve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Frustration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ve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6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 in 20 words difficult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95% accuracy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 in 10 words difficult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90% accuracy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More than 1 in 10 words difficult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ss than 90%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Monitor Progres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Helps determine the effectiveness of instruction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Helps to set instructional goal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Is motivating to student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Timed Reading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Select passage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Have students read passage for 1 minute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Count number of words read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Subtract the number of error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Graph WCPM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176"/>
                </a:solidFill>
                <a:latin typeface="Arial"/>
              </a:rPr>
              <a:t>With greater fluency, readers can concentrate on comprehending what they read, develop greater self confidence, and enjoy reading more.</a:t>
            </a:r>
            <a:br>
              <a:rPr sz="4000"/>
            </a:b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Gilbert &amp; Temple, 1994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is the ability to read a text accurately and quickly with prosody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Do </a:t>
            </a:r>
            <a:r>
              <a:rPr b="1" i="1" lang="en-US" sz="5400" spc="-1" strike="noStrike">
                <a:solidFill>
                  <a:srgbClr val="404176"/>
                </a:solidFill>
                <a:latin typeface="Arial"/>
              </a:rPr>
              <a:t>you</a:t>
            </a: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 read all text fluently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Why is reading fluently important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is important because it provides a bridge between word recognition and comprehension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383ad"/>
                </a:solidFill>
                <a:uFillTx/>
                <a:latin typeface="Arial"/>
              </a:rPr>
              <a:t>Less Fluent Reader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ust focus their attention primarily on decoding individual words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ave little attention left for comprehending the the tex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383ad"/>
                </a:solidFill>
                <a:uFillTx/>
                <a:latin typeface="Arial"/>
              </a:rPr>
              <a:t>More Fluent Reader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cus attention on making connections among the ideas in the text and their background knowledg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ble to focus on comprehens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Why might your students have difficulty with reading fluency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176"/>
                </a:solidFill>
                <a:latin typeface="Arial"/>
              </a:rPr>
              <a:t>Prerequisite Skills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Letter familiarity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Phonemic awareness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Knowledge of alphabetic principle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erequisite Skil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Fluency is also dependent on the reader’s vocabulary skills. Students must connect with the syntactical and meaning aspects of words.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4:50:10Z</dcterms:created>
  <dc:creator>Maryk</dc:creator>
  <dc:description/>
  <dc:language>en-US</dc:language>
  <cp:lastModifiedBy>ECSD</cp:lastModifiedBy>
  <dcterms:modified xsi:type="dcterms:W3CDTF">2010-04-16T17:30:56Z</dcterms:modified>
  <cp:revision>12</cp:revision>
  <dc:subject/>
  <dc:title>READING FLUENCY</dc:title>
</cp:coreProperties>
</file>